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0D4-455D-44BB-8A01-7CBBB59E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8C8-C507-46CB-8C9B-52D3A19C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DEB-D34D-4BE9-8DED-FAD7FD62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444-B249-48E3-80F2-7954F8FB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5EBD-D22F-4060-A55C-03D71341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5546-8505-48B0-AFE7-E6E3A119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37C-A434-49FE-ADF0-8C977DD8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647-4403-404B-8D62-F4B7F200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52A2-7F70-4061-ADFE-B0722F4C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7BF-D96F-4BE1-AA87-35DD36AB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BF6D-54C6-45D8-8EDC-8DCF795E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B64-D360-4E06-8B1C-F31D053F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B5CF-D69D-4B56-B3E3-E84FADE42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PS Communication Working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rence call on 4/13/05 from 1:00 – 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ed examples of ERCOT Notif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ation by Art Deller to fol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an discussion concerning Commercial Operations 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san Potters, A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risti Stucker, First Choice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Retail Market Guide for format and change contro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ning Table of Contents using items from COPS Scop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coming Conference Ca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1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ednesday (1:00 – 3: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ne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Tuesday (1:00 – 3: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3:16:16Z</dcterms:created>
  <dc:creator>Judy Briscoe</dc:creator>
  <dc:description/>
  <dc:language>en-US</dc:language>
  <cp:lastModifiedBy>A. Boren</cp:lastModifiedBy>
  <dcterms:modified xsi:type="dcterms:W3CDTF">2005-04-21T13:46:54Z</dcterms:modified>
  <cp:revision>13</cp:revision>
  <dc:subject/>
  <dc:title>COPS Subcommittee</dc:title>
</cp:coreProperties>
</file>